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75C9-0552-4351-99C8-1D89D00E7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B238-F6EF-4659-835E-96EA0D1E5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C190-321D-426D-99D1-B59E639FF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847A-13F6-4DDF-94EF-E17B7F4BD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93B29-26EC-41EA-BD06-98950E28C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E9597-464F-43FA-9843-E146AF4DE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B6E38-8450-473A-8B95-99CD57C2E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0930F-EEC8-4D50-ACFF-34F2B125B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CC405-B9E2-4F9F-AFC3-8C5900049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E8C81-B535-470F-B8C5-B75B01E0E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43FC2-E1A8-4423-A39E-51DB9031D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759E-E332-4A1B-9F7F-5318FE124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55C47-6BC2-44F8-96BE-84CF0FDE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52359-67E8-42F8-AAFB-D2F38B31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8D9C9-C39E-4FDA-8FC0-1884A561D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63CBB-474F-487E-B4AB-555FEB511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19A12-E3A6-45B0-8163-B68E83494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1887-0F97-4E0E-93A9-A68449291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3BA8-941A-4A26-A3AE-2AE3BE31F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1B78-BF21-4665-9D91-3A4488102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559B-FBD6-4364-9167-63063D517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B4AD-7052-4CB3-952A-E710B6D0E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F2D3-BE7F-4949-AF56-0CAE32DEB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92CA-F854-4EB2-A980-33BF6430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E0846-431E-4899-A9D4-636B85C0630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F8286-F28B-4A5F-BC84-A300E4D043F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4c"/>
                </a:solidFill>
                <a:latin typeface="Tahoma"/>
              </a:rPr>
              <a:t>Me llamo _______ Clase 6NH (601)</a:t>
            </a:r>
            <a:br>
              <a:rPr sz="3600"/>
            </a:br>
            <a:r>
              <a:rPr b="0" lang="en-US" sz="3600" spc="-1" strike="noStrike">
                <a:solidFill>
                  <a:srgbClr val="004e4c"/>
                </a:solidFill>
                <a:latin typeface="Tahoma"/>
              </a:rPr>
              <a:t>La fecha es el 18 de diciembre del 2012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067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Tahoma"/>
              </a:rPr>
              <a:t>Propósito # 22: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  <a:ea typeface="Tahoma"/>
              </a:rPr>
              <a:t>¿Escribes mucho en clas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Tahoma"/>
              </a:rPr>
              <a:t>Actividad Inicial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ee </a:t>
            </a: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Tahoma"/>
              </a:rPr>
              <a:t>conversación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p. R2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pia y completa </a:t>
            </a: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Tahoma"/>
                <a:ea typeface="Tahoma"/>
              </a:rPr>
              <a:t>¿</a:t>
            </a: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Tahoma"/>
              </a:rPr>
              <a:t>comprendes?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p.R21 (1-5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paso del Vocabulari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57200" y="1504800"/>
            <a:ext cx="2124000" cy="21528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2743200" y="2016000"/>
            <a:ext cx="2238480" cy="1489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6248520" y="1619280"/>
            <a:ext cx="1952640" cy="23432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2209680" y="4495680"/>
            <a:ext cx="2619360" cy="17431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3048120" y="914400"/>
            <a:ext cx="27432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a7c3e"/>
                </a:solidFill>
                <a:latin typeface="Tahoma"/>
              </a:rPr>
              <a:t>El post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0880" y="3657600"/>
            <a:ext cx="190512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hocolate cali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505320" y="3581280"/>
            <a:ext cx="129528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f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181480" y="3429000"/>
            <a:ext cx="129564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past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477120" y="3886200"/>
            <a:ext cx="18288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bizcoch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848720" y="3429000"/>
            <a:ext cx="129528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tor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666880" y="4114800"/>
            <a:ext cx="167652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El hel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523520" y="510552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05320" y="60958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495680" y="502920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0" y="4875120"/>
            <a:ext cx="175248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hocol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895480" y="6399360"/>
            <a:ext cx="129564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vai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410080" y="4800600"/>
            <a:ext cx="129564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fre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6629400" y="4648320"/>
            <a:ext cx="2286000" cy="12096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7315200" y="5942160"/>
            <a:ext cx="129528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Tar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Verbo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mar (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el desayuno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n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sayun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morza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b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ivi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cibi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0" y="1143000"/>
            <a:ext cx="45720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Tahoma"/>
              </a:rPr>
              <a:t>To take/have (breakfa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752480" y="1751040"/>
            <a:ext cx="25146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Tahoma"/>
              </a:rPr>
              <a:t>To have dinn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514600" y="2362320"/>
            <a:ext cx="312408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Tahoma"/>
              </a:rPr>
              <a:t>To have breakfa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209680" y="2894040"/>
            <a:ext cx="25146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Tahoma"/>
              </a:rPr>
              <a:t>To have lun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752480" y="3429000"/>
            <a:ext cx="25146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Tahoma"/>
              </a:rPr>
              <a:t>To 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752480" y="4113360"/>
            <a:ext cx="251460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Tahoma"/>
              </a:rPr>
              <a:t>To dri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447920" y="4646520"/>
            <a:ext cx="25146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Tahoma"/>
              </a:rPr>
              <a:t>To l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905120" y="5181480"/>
            <a:ext cx="25146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Tahoma"/>
              </a:rPr>
              <a:t>To rece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El Presente de los verbos –ER, -I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8915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10% de los verbos en español terminan en 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-ER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o </a:t>
            </a:r>
            <a:r>
              <a:rPr b="0" lang="es-ES_tradnl" sz="2800" spc="-1" strike="noStrike">
                <a:solidFill>
                  <a:srgbClr val="ba7c3e"/>
                </a:solidFill>
                <a:latin typeface="Tahoma"/>
              </a:rPr>
              <a:t>-I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ara conjugar los verbos que terminan en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-ER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o </a:t>
            </a:r>
            <a:r>
              <a:rPr b="0" lang="es-ES_tradnl" sz="2800" spc="-1" strike="noStrike">
                <a:solidFill>
                  <a:srgbClr val="ba7c3e"/>
                </a:solidFill>
                <a:latin typeface="Tahoma"/>
              </a:rPr>
              <a:t>–IR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1) Sacamos la terminación </a:t>
            </a:r>
            <a:r>
              <a:rPr b="1" lang="es-ES_tradnl" sz="2800" spc="-1" strike="noStrike">
                <a:solidFill>
                  <a:srgbClr val="ffcc00"/>
                </a:solidFill>
                <a:latin typeface="Tahoma"/>
              </a:rPr>
              <a:t>-ER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o </a:t>
            </a:r>
            <a:r>
              <a:rPr b="1" lang="es-ES_tradnl" sz="2800" spc="-1" strike="noStrike">
                <a:solidFill>
                  <a:srgbClr val="ba7c3e"/>
                </a:solidFill>
                <a:latin typeface="Tahoma"/>
              </a:rPr>
              <a:t>–I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1" lang="es-ES_tradnl" sz="2800" spc="-1" strike="noStrike">
                <a:solidFill>
                  <a:srgbClr val="ffcc00"/>
                </a:solidFill>
                <a:latin typeface="Tahoma"/>
              </a:rPr>
              <a:t>Comer</a:t>
            </a:r>
            <a:r>
              <a:rPr b="1" lang="es-ES_tradnl" sz="2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ba7c3e"/>
                </a:solidFill>
                <a:latin typeface="Tahoma"/>
              </a:rPr>
              <a:t>Vivi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2)Remplazamos la terminación de la siguiente form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Yo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Tú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Él Ella Ud.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Nosotr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llos Ellas Ud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0099"/>
                </a:solidFill>
                <a:latin typeface="Tahoma"/>
              </a:rPr>
              <a:t>**Los dos son iguales EXEPTO en NOSOTROS**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3812040" y="3747960"/>
            <a:ext cx="5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00"/>
                </a:solidFill>
                <a:latin typeface="Arial"/>
              </a:rPr>
              <a:t>-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35720" y="4191120"/>
            <a:ext cx="7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00"/>
                </a:solidFill>
                <a:latin typeface="Arial"/>
              </a:rPr>
              <a:t>-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12040" y="45720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00"/>
                </a:solidFill>
                <a:latin typeface="Arial"/>
              </a:rPr>
              <a:t>-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36800" y="5029200"/>
            <a:ext cx="13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00"/>
                </a:solidFill>
                <a:latin typeface="Arial"/>
              </a:rPr>
              <a:t>-EM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736080" y="54864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00"/>
                </a:solidFill>
                <a:latin typeface="Arial"/>
              </a:rPr>
              <a:t>-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184000" y="5029200"/>
            <a:ext cx="120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ba7c3e"/>
                </a:solidFill>
                <a:latin typeface="Arial"/>
              </a:rPr>
              <a:t>-IM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895480" y="2590920"/>
            <a:ext cx="457200" cy="6426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24480" y="2604960"/>
            <a:ext cx="457200" cy="6426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736080" y="335268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00"/>
                </a:solidFill>
                <a:latin typeface="Arial"/>
              </a:rPr>
              <a:t>-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286600" y="3352680"/>
            <a:ext cx="65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ba7c3e"/>
                </a:solidFill>
                <a:latin typeface="Arial"/>
              </a:rPr>
              <a:t>-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259960" y="3747960"/>
            <a:ext cx="5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ba7c3e"/>
                </a:solidFill>
                <a:latin typeface="Arial"/>
              </a:rPr>
              <a:t>-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245560" y="4191120"/>
            <a:ext cx="7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ba7c3e"/>
                </a:solidFill>
                <a:latin typeface="Arial"/>
              </a:rPr>
              <a:t>-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253480" y="45720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ba7c3e"/>
                </a:solidFill>
                <a:latin typeface="Arial"/>
              </a:rPr>
              <a:t>-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225400" y="54864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ba7c3e"/>
                </a:solidFill>
                <a:latin typeface="Arial"/>
              </a:rPr>
              <a:t>-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9" dur="5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51920" y="838080"/>
            <a:ext cx="89917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KBOOK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leta p. R 14- R 1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685800"/>
            <a:ext cx="891540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Tarea # 2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2T03:00:05Z</dcterms:created>
  <dc:creator>Helen Zumaeta</dc:creator>
  <dc:description/>
  <dc:language>en-US</dc:language>
  <cp:lastModifiedBy>Helen Zumaeta</cp:lastModifiedBy>
  <dcterms:modified xsi:type="dcterms:W3CDTF">2012-12-18T13:35:48Z</dcterms:modified>
  <cp:revision>9</cp:revision>
  <dc:subject/>
  <dc:title>Me llamo _______ Clase 6NH La fecha es el 2 de abril del 2012</dc:title>
</cp:coreProperties>
</file>